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573-F26C-4430-A82A-A8298C7C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A45-E45B-47E1-A3C5-9EE7B882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ED9-ED42-448E-A4A0-05D2EF91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9B9-ABC3-40F3-AB70-17128432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E54-3686-4D89-BA5C-5E140521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D0E-C6A0-4C1A-B647-6621291C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915-6463-48DC-97B3-E5010D07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527-C56F-49E7-BEED-6E3F4CC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EE5-BD32-445E-A0E2-FC007B6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00C-C6CE-4AD5-BBB8-E6F00490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8E3-95EE-44DB-9957-F99271AF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921-D58F-43D3-8066-F6C8414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C45C-CFCE-4995-968F-E7909CEAD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105800" y="2286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ＧＲＥＥＮ－ＥＤＩ画面・帳票説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784400" y="51814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小島プレス工業株式会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70320" y="12193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＜さくらワークス実証実験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8178120" y="6400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　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6012000" y="189000"/>
            <a:ext cx="2838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業界横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2_4_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6212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納品書帳票（正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96440" cy="5324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82162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１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858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請求書帳票（正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43800" cy="5394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82162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１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762120" y="457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さくらワークス発注処理画面（マルコおおむ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066680" y="990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１発注処理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457200" y="1676520"/>
          <a:ext cx="838188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38188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82162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１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注文書帳票（正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28520" y="933480"/>
            <a:ext cx="8886960" cy="4991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82162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１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83808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２発注内容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1295280" y="914400"/>
          <a:ext cx="6505560" cy="53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6505560" cy="53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4"/>
          <p:cNvSpPr/>
          <p:nvPr/>
        </p:nvSpPr>
        <p:spPr>
          <a:xfrm>
            <a:off x="82162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１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457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３納品書処理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228600" y="1676520"/>
          <a:ext cx="868680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686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82162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１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57200" y="457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納品帳票（正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71280" y="933480"/>
            <a:ext cx="9001440" cy="4991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82162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１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948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請求書帳票（正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00080" y="928800"/>
            <a:ext cx="8943840" cy="5000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82162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１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811520" y="3049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ＧＲＲＮ－ＥＤＩログイン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371600" y="762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メーニュー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371600" y="1219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さくらワークス受注処理画面（豊田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23880" y="40863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さくらワークス発注処理画面（マルコおおむ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828800" y="167652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１見積書処理画面（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　＜見積書帳票（仮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２受注内容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　＜注文書帳票（仮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３納品書処理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　＜納品書帳票（正）・請求書帳票（正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828800" y="46195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１発注処理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　＜注文書帳票（正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２発注内容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３納品書処理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　＜納品帳票（正）・請求書帳票（正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8178120" y="6400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　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42200" y="3049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ＧＲＲＮ－ＥＤＩログイン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143000" y="1752480"/>
          <a:ext cx="746748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4674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5"/>
          <p:cNvSpPr/>
          <p:nvPr/>
        </p:nvSpPr>
        <p:spPr>
          <a:xfrm>
            <a:off x="8178120" y="6400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　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005120" y="30492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メーニュー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6"/>
          <p:cNvGraphicFramePr/>
          <p:nvPr/>
        </p:nvGraphicFramePr>
        <p:xfrm>
          <a:off x="1371600" y="838080"/>
          <a:ext cx="6400800" cy="554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64008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7"/>
          <p:cNvSpPr/>
          <p:nvPr/>
        </p:nvSpPr>
        <p:spPr>
          <a:xfrm>
            <a:off x="8178120" y="6400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　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さくらワークス受注処理画面（豊田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14400" y="838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１見積書処理画面（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7"/>
          <p:cNvGraphicFramePr/>
          <p:nvPr/>
        </p:nvGraphicFramePr>
        <p:xfrm>
          <a:off x="304920" y="1523880"/>
          <a:ext cx="85341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5341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8"/>
          <p:cNvSpPr/>
          <p:nvPr/>
        </p:nvSpPr>
        <p:spPr>
          <a:xfrm>
            <a:off x="8178120" y="6400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　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6858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見積書帳票（仮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44080" cy="5077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8178120" y="6400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　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58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２受注内容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143000" y="838080"/>
          <a:ext cx="6781680" cy="563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8178120" y="6400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　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09480" y="457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注文書帳票（仮）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48720" cy="4853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8178120" y="6400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　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３納品書処理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28600" y="1523880"/>
          <a:ext cx="868680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8680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4"/>
          <p:cNvSpPr/>
          <p:nvPr/>
        </p:nvSpPr>
        <p:spPr>
          <a:xfrm>
            <a:off x="8178120" y="6400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Ｐ－　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3:43:28Z</dcterms:created>
  <dc:creator>kk</dc:creator>
  <dc:description/>
  <dc:language>en-US</dc:language>
  <cp:lastModifiedBy>sugamata1</cp:lastModifiedBy>
  <cp:lastPrinted>2013-01-17T07:16:37Z</cp:lastPrinted>
  <dcterms:modified xsi:type="dcterms:W3CDTF">2013-01-17T07:17:36Z</dcterms:modified>
  <cp:revision>12</cp:revision>
  <dc:subject/>
  <dc:title>PowerPoint プレゼンテーション</dc:title>
</cp:coreProperties>
</file>